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18C-188D-4B55-84F1-0CF4DFCC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CED-F8B3-4A5A-80A8-174E15B0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7F4-759A-4690-8A81-CA0FC32E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75C-4EAB-4D39-B0B8-7D937AD3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68CF-2CA7-4EFA-A610-AE13FAC6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1193-6811-4CB2-AEE7-180D8397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1756-87E8-4906-BDC9-3F58A6EA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4DE8-ED36-47CE-8E73-E025AEE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12D1-3B1B-4FFF-8715-B216D081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5AEC-2614-4F7A-B3A3-DBE17D03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A99E-E0B5-48AF-B127-7ABB457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B31-11FF-4E4D-90C1-65E60B13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BC4B-A20E-49FA-AF6F-A1DE9A4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BA4-E836-4714-B5FA-4A5FA24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ED65-DD39-4C69-94E9-0966096E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9B2-D393-49A9-BF45-BAA4BD6A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7DD3-D2E6-4377-B8CF-D1995E8F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CEE-4EDF-41B2-9CDB-2AE0EB62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BAD-90C1-4320-8FBD-8DCDC71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FC7-B90C-4A20-B085-779B4AD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308-BD97-4D3A-8A93-780DEF9E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FA1-61E4-4738-B19B-D8C369A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E5F-ABEA-473F-9697-B777C2C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6CA-A107-4B6E-A3F8-9272BF7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A00A-25C4-444D-844C-8DAE794DD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16B5-8ABE-47B5-A073-C448F15AC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amson -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15:1 - 16: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8-1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Death -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21-31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seized him, blinded him, took him to Gaza, imprisoned  and abused  him  v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passes; his hair began to grow  v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aken to a great festival for their god Dagon  v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re were 3,000 men and women on the roof alon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into this huge assembly to be used for sport  v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Death -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26-31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ook revenge on the Philistines  v26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brought the building down upo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more Philistines in this assembly than in his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aken back to Zorah for b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for 20 years  v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– Review, Review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under oppress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birth foretold by an an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live under the Nazarite v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’s offering to the angel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born - the spirit of the Lord moved within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esired a wife from among the Phili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– Review, Review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killed a lion and later retrieved honey from the carcass – source of a r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rriage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30 companions and his riddle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inally gave the answer to his wife resulting in him losing a w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ed 30 Philistines to pay w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fe was given to his “best 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47242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46483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105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n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495680"/>
            <a:ext cx="2362320" cy="60984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5181480"/>
            <a:ext cx="2286000" cy="15264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Denied His Wife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5:1-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ried to get his wife back  v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anger taken out on the Philistines  v3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used 300 foxes with flames tied to their tails to burn the harvest c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blamed his wife and her father  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member the threat to her involving the riddl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very angry; smote the Philistines  with a great slaughter  v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Vengeance on the Philistines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5:9-17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gathered to war against the Israelites  v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blamed Samson  v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: “I did to them like they did to 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aken to the Philistin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d and killed 1,000 men with the jawbone of an donkey  v14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y whose power did he kill these men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Distress From Thirst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5:18-2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was very thirsty  v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provided the water  v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judged Israel for 20 years  v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is may be when Samson was raised to a judg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at Gaza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1-3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visited a harlot in Gaza  v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mbush planned  v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scaped from Gaza  v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ied a gate of the city and the posts to a hill near Heb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to the valley of So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 Delilah (a Philist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and Delilah -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4-2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loved Delilah v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conspired with Delilah to find his source of strength  v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lah betrayed Samson  v6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seemed to play a game with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unsuccessful atte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th attempt - he told her about his 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hair was cut; his strength left him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Frank D Vines</cp:lastModifiedBy>
  <dcterms:modified xsi:type="dcterms:W3CDTF">2005-02-28T15:34:54Z</dcterms:modified>
  <cp:revision>23</cp:revision>
  <dc:subject/>
  <dc:title>In The Days of the Judges</dc:title>
</cp:coreProperties>
</file>